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650-70BB-4DF3-9E79-01F0B704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C2F-90E2-4907-9213-86ED190E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7A2-3FD8-4358-8501-B3F2872B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D42-E2EB-41AA-AEAB-68AB8052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53E-6D19-475F-B89F-9EC99C9E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4D2-694E-406F-AF33-67D51A6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875-5108-4A4C-9617-611B849A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010-80E9-4F65-9240-672C28D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3530-14C3-4388-9A3D-6822408A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5167-3B33-414A-B7B7-BA36A4C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AC2-C8AE-40B1-A8F8-5FA1357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0BE-1169-46F5-8043-0CC59D8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82CA-7368-44CA-B796-824361A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5C9B-F178-4214-B5FB-57721ED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CD00-F3EC-41FC-B6E0-F2D7CD55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BFF-8820-4B55-AE99-DF9B9506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5669-888C-4EE9-B5EF-6CF20B96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75D-BF54-407A-A01C-3BF1F569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BA4-32EE-4AB2-B37D-1775D19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58B-8891-428F-9D37-FBD12821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7B4-E776-4631-8B3B-C252997C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4CA-B7B7-44BB-B300-B350BD7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3EB-6242-4A2E-95A0-E84F875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F74-C9F1-4B3C-A371-9339FDC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8B14-7344-468C-9A21-56C12DE61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BF5C-17B0-4147-B7A0-237BE86DB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ИДЕКС ПРИРОСТА 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ВВП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ИЗМЕННЕНИЯ 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ИПЦ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В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 РФ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В АВГ.98-ЯНВ.99 (В%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ОТНОШЕНИЕ ДЕНЕЖНЫХ ДОХОДОВ НАСЕЛЕНИЯ К ВЕЛИЧИНЕ ПРОЖИТОЧНОГО МИНИМУМА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Динамика среднемесячной з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 (в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 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В какой мере население РФ преодолело кризи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5:38:50Z</dcterms:created>
  <dc:creator>DJulia</dc:creator>
  <dc:description/>
  <dc:language>en-US</dc:language>
  <cp:lastModifiedBy>DJulia</cp:lastModifiedBy>
  <dcterms:modified xsi:type="dcterms:W3CDTF">2000-02-16T16:31:01Z</dcterms:modified>
  <cp:revision>3</cp:revision>
  <dc:subject/>
  <dc:title>ИДЕКС ПРИРОСТА ВВП</dc:title>
</cp:coreProperties>
</file>